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CD6-4582-4496-B5D4-9700BB8D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1C1-FE48-4FE2-A787-7CAF6835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245CF-1249-4451-9777-6E8AA328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CBA0-50D4-406A-A6E1-3AA598BC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62A00-D2A4-458B-A9C4-35FB549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81C40-8139-43EE-8ED9-565909C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5F981-E03D-42B6-9C78-3ED0F18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4DEAF-BB75-4D8A-BD98-9EFAAFB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95125-21A6-4EB9-B719-2AB870C2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ECE3B-7E08-4FDE-A429-4C9BAD69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6B9D3-9DEA-4CF6-89C8-F1895C6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14233-3A1F-45B9-AE51-40946D7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991-6FFA-404F-B809-49FCC536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8B96C-E1A5-4C29-96AF-46FB47B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D46D7-12D8-485D-8D68-DA475C95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9AF5E-25EC-4EF2-98F0-19DF2AFA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1E26C-47C7-4DAC-8CD6-B9D751F7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18AF8-563D-4135-98DC-A7EDB7C6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47914-057F-415C-990A-3E9B5B9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DD1C2-1314-4AB5-B8E1-0D12E696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A70D1-C718-4938-83BC-79078E4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B6FDD-A3F0-4B9E-A03B-3D8B0BA8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6CDBB-D80B-488C-BF73-6F45F507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3AC-4A51-4CF8-8504-2C197215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E9E85-792A-461C-B70A-C59391F7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0A278-6867-4264-B4E5-942F778C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3C43-4AEB-432B-96E3-3A1CF1CA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D3D00-EDD0-4CE3-8846-E82DA58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62170-0A25-459B-9440-F36C47DF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EDC40-81C9-4BA2-BD47-4570FA7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BD9BF-6C36-4AB5-8923-3BE7955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108C0-F627-4902-B36D-3E48524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D623B-5DA8-4F82-93A1-F4139B8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425F5-EFFA-4EE5-9FE7-9E2BCF0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74A6-CAEB-49BD-BEFC-A352D92B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D5ABE-78DF-4210-BB81-BDB51FA1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05DEA-E9AD-4057-B023-5C67ADB3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288F4-A773-40FE-963D-A8DFE0A8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644E0-2B6F-4494-B3CB-A04992A1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04631-2F15-4035-AF7B-0A81BD4E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6DC7D-A563-4CB1-B543-E8574AE4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00709-6FB6-4C1E-BCFF-AE65496D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C45F7-6A49-413C-BB13-0DBB436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77F2E-15F4-47FE-9611-CB8FBFB2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8A95F-2D0C-4C3E-9765-191E269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AB3-ADDB-4FFF-9FD5-E988C5B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50E20-D5ED-426C-97B4-EA01FF6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F4ED9-70A9-47E4-8AE5-63368BAA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0E810-DACE-4172-A6A1-3C200F6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2697B-5193-4369-917D-811B6E4F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55C70-D835-4359-A030-0EB4C1C3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3BDC1-DEC8-4BC3-ACC0-372325E9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883B2-0E2C-45A5-AC35-9CFF3D5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CA3D6-3FC2-4F5E-86E7-5E69A929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63602-303E-413F-B784-DEEEDDC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5EBB7-5D55-40EE-8AA4-E92A6F4F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19B4-BFE9-44F6-85FE-7A587B57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DB317-3DDB-48D3-99AD-5D8D4DA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906B0-9323-4DEF-AF30-7F0D0493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A352B-9C93-4E0A-AD70-3274C2B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A71C0-3F34-42A8-A2FD-8349A3E5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DED36-AD7A-4D13-A928-60AE2AF2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20C1D-C762-4AEB-AB59-9344D021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44532-5FFF-4E81-8DCA-3BD1BC5E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E9046-3E41-48CC-8632-68D0C386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30C89-59CC-4ED3-924F-F4D5C3C8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1C971-E8D3-4A10-B7B9-910157B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A8D-4A00-4128-A6AC-B9EDFFEE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AC39A-3D5A-455A-BD6F-706ACF38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85EE1-A65B-4249-8F00-14B1F5A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3DA0D-4594-4A63-BF89-AB700907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FC0F2-0371-435F-9E20-E2414DA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7B144-895A-44FF-B20A-8623C10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DB92D-EF78-4420-B2CF-06744AF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12627-F98C-491F-81D1-4CFB48AD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1E5CE-68D0-4311-BFCA-D9EE7025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DBFAD-DE1B-484A-99F5-68FAACAF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9D830-0D23-4860-BE5F-5E0489C6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75F2-EED4-4906-863F-0734F823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DB2E5-374E-4117-9995-94DE216A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99B72-AA6F-472C-AE55-8CC9211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196D2-42B0-44DC-BCA5-C0FBED7B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670C0-61E0-46E9-BF06-F0B07CF0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B193B-65C0-4442-8C0A-9AEEFBC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FC9B3-9F62-4498-A487-1E3ABFB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F4FB6-B555-4602-90FB-AFC2B110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C07B7-7AF7-42B5-AC58-1FE8CFB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D2A46-1A54-4F8B-AC2A-1BD8646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73907-710B-48C2-B5F1-79374F7D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5DF3-ED12-47A0-B950-132E96E3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8BE28-D064-45A4-B578-E485AE12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D1540-4943-4BB5-A83B-2DF1128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8187C-F72B-42AC-924E-EF1D3899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0F2AC-E635-488C-B556-AB95F8F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7A31F-EB99-48D7-AA8E-F54D497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CEA92-BF59-49D9-BD79-25A1E640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21650-0156-4816-9007-A9AEB36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E59FC-9915-4246-BF64-0133E9A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0B731-95D2-4469-B66E-426EDE1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17F53-BFD8-4AE7-BB1A-53869FC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9D4-4F56-474C-A950-5E39023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5DD5E-5AAB-44A0-AB7C-5288ED4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178AD-8385-4BD7-BE52-A844A389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85BFE-E251-4757-AA41-621C23DD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F5290-6229-4425-8CCC-C48C28D3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40345-4AF4-48A5-8EC9-52F57CDB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CCCCA-73E1-48ED-90C2-B2B0482E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059B2-1359-4BA7-8B2C-E8C4E601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BD2CF-F504-4B45-9D32-C5FD928E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22FA4-33E9-4129-BA9C-4E536D9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C7847-CB9F-422F-B8F1-1FC44D32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428-03CE-4643-B90A-DC47D23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EDA-52ED-4161-80E0-A91F8C3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C4782-48D8-4366-8B64-F23FC71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40D89-60AE-442C-93A1-F36C565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EC77C-82CE-4800-9639-B197C2A9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5904F-03CD-4623-B82B-E31F3602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7CD37-E100-406F-BE27-8A4FDCED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5269E-9919-48BD-9FEB-D107B89A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65F8D-8EC1-43E2-BE12-634372EB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CA143-2119-4F58-BDDB-033945E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F42BF-A64A-4A17-93A2-411D7498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DCED9-3A87-42B2-B6B5-C32E6578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C655-3CC9-461C-B574-BE40229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0E2C5-10DE-4B4B-A7A5-7ACC620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5A74D-668D-4F6B-897C-130241B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85ECC-3466-41D2-B31F-E2A00EF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BCB64-5B02-479A-B8F3-37BCACAC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5C3BE-1936-4F37-BAE6-6D1FEFF6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DCFEE-2666-4552-8462-B5D7B96D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CDD3F-A832-4761-B014-B55EAFE6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10AD7-DEE6-4073-80DE-C42BBBE4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654D8-E657-4400-8EA2-0E0E5C9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973EF-5F28-4271-BD0A-2930C050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7F3A-80D6-49BE-A7B1-F5CC9C1C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762FF-FFBA-41E8-B388-C936A271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407B1-0EFB-48BB-881E-4132818C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48952-A25C-4D90-89EB-608DD794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67315-88FA-4DD4-8B58-9FCB75AA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EC8DA-72AC-4CCA-9586-2B31212D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3A13D-6BA0-401A-B385-1011DF99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127E6-ABD0-4390-834D-914C768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6ED97-3A48-4DC2-89D7-B476184F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57A70-0B42-46AA-ADE6-C0B16AA3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1C331-E8EE-4924-8084-64F631B3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0378-E71E-4982-BF40-1AD2339A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77554-F21F-4CDC-9431-F758824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11E41-7A3E-4740-A52B-9C5A61F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89F3D-77A5-4161-80B8-1887019C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6F9ED-6EDE-4164-A98E-A5C16422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4616C-35FB-4AC5-81DA-ADDE0952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6A2DB-8B10-4209-B08D-5C38EEF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2FF0C-E920-453F-9FCD-680EAF6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A0520-FCE9-45C6-A764-CBDDDAA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26EB4-C83E-4838-AA25-1BA269A6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E1591-2F97-4B69-97A2-490690C0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C35-91CA-4251-B7CE-CBAABC29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B4B52-DE97-4ABB-AF77-EA794B7A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9738A-75AB-4A28-9520-4BDD12B8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C9653-B871-405C-BBCF-2A6CD32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ED2E2-17CA-4518-B887-6F35644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9713F-528E-4D4E-8FC7-C6A7322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650AA-8D43-405B-8A8F-2616F2F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F8573-DF7D-4927-BBCA-0F8E129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6E00D-DFF2-4EB6-8CD4-7B57808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74AA5-D2F0-4603-B538-74072A8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C65D9-2334-4A35-83DB-55C4CF3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029F-B68A-43C5-9795-F80B1DD2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50323-4939-437C-A827-C5101AD2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41963-570F-4852-92EF-0947BB0A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51723-0240-4808-A610-0D473DD5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A960-D180-4FE8-850D-521BB410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A22F-EC50-4F5A-BF9C-8D3AD764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1F17-7E5A-4627-B40B-D193580D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F7EF-0DED-4A3D-BC3F-B34AE878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B0B-AEEB-479D-93D6-E8F2797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4039-839D-4060-BF5B-B8C13E5F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BA53-C3DC-409B-A2A2-62CC261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A5C1-D71B-433A-AD57-E1BC2A5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57EB-DF9F-4397-8D73-8AD42E7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C06F-C4F7-4563-8ED6-0073C81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50D0-310B-4D71-8341-FB7D3EBF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DC13-669A-4F76-8EBF-57F70BC9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73F3-3165-43AC-B6B4-27E619FE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FAF8-0B18-465B-A772-C5C48836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940C-634E-4D9F-9754-4B9605F4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4F0-2611-44A0-9571-C371C226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4D1C-3E40-4DA8-9EBF-4AC4CBC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2F953-3DB8-4D0E-ACAB-C7342125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8723-015A-4CAA-BDDF-2F656ED4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5B57-BB65-4355-909D-83C9385D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328B-C6B9-45C1-979F-09F51414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F2DA-AF6A-4BE1-89F2-9E1A225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FE44-73A9-4331-B997-4516CA1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6964-5BF5-474A-A394-3396A654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FA98-CDF6-4863-AB6B-8525225D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23421-7831-4695-8B02-8A61CB0B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2B1-2242-4958-BB68-DA8147D9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1457-F170-4FA7-993F-DC1C79E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2B1C-F2CC-4191-B235-FDE06CF9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2E6D-F222-44B9-A52C-B7740D31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2464-C787-4550-A073-A36BB893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0C77-B048-4797-B4BB-62C6592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7DEF-E18F-435E-9B78-57FD210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A45C3-194B-41B0-B724-6E5F996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D973-6408-4E7C-9AB8-46AF6871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6798-87A9-46BA-839F-F6D8AB7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DDBB-8C75-4183-9659-AE03060F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190-BF83-4B53-95FC-2B654EF0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18AD-4CA1-46E4-B026-78E27CEA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2184-EA17-432B-A97E-CA01D0D2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00499-9B8C-4FE7-9D0B-213BF42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C1F5-0675-4DC5-831D-3D896B0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0D6C-8AAE-4158-8916-C57F4A2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5491D-F2EC-491C-82C1-327A1B7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6115-CF10-42E9-8456-AA326993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6CEDF-4640-4FAE-915D-C537937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9642-42CA-4239-8E93-CF5C408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A33F-1DCE-4FEC-AEFA-1F4554D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7C2-0BF8-4D13-ABD8-EFF8F8AD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C4E9-0CAE-44F1-AE56-E9C285C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FF76-F6F3-467F-BDAB-CD0BDD98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E34D-2373-4A4D-8B97-8BF40020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F3DD8-A11E-42E1-AE44-25252339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66B39-C9A9-4F7B-A172-E5A525D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C566-5D1C-41C0-BA7F-0F0E6AD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405D6-1D05-4DA5-9532-FBFE30D5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8895-79F7-4655-9A8D-33184BF0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F838-74CC-42A1-ADFA-B8B506D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82D0-AAA2-413F-BD57-02EB8377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68F-2C39-4FED-A924-077608A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860F4-6FA3-4EA6-968D-3211409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F415-BD0E-4990-BA28-386B10F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BC696-4ADF-476D-B50C-5BFD451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69DD-9264-4AF5-B9E1-0C210162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ABA5-0065-443A-974C-39F5402D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E420C-B112-48B7-AA2D-E2AF1E00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6FD9-E8FD-4C0B-A762-8B71198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C0B0C-836D-4ADA-9C87-CB5625D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34228-6D3E-48AC-8850-0ACE150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C3FF5-A069-40FC-B2D2-4F14340C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F88-1694-4190-915D-842FCD9E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B2E83-5BAD-4B14-B99B-61E1FCFC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FD84-AF44-49D4-970D-56F363D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B9BBA-7A63-4667-A00A-9312134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A237-841E-4D8E-AC8F-CD1248A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FD40-754E-4BD5-B0C6-129303D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CF15B-79CD-45FA-B521-DC857BFF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F9602-92C1-4F18-9F5F-7EB8E765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C9A09-B949-4242-883C-04C1D9DD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0430B-CA91-4BDE-859F-DE68894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A83A3-01FA-45AC-8529-BAE0A43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3E3-14E5-4801-ADB2-C246AAEC4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B62-58ED-45D8-821B-8C537D674C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661-060D-4EAC-930F-52BF7B169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FBA8-5D84-4BA3-84A2-0F438A4F8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3E12-9022-4138-BFD6-1597D5473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AB03-4C40-4140-AEDB-6E834D100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1FCC-282D-46EE-B347-846951F30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BB5F-0F43-47E2-8210-AEDE0EB08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806-310F-4DB9-97A6-7F05B5899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4D6-2A3C-49F9-A8A2-1AC400123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8077-965E-43FA-AC2D-99D36BEA0D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5DF-34DD-4E63-949D-E865FF701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9D3-2394-40D0-9A3F-4670AC871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6EF-7964-4CFE-B490-8F0698722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D94-593B-45E9-B10F-1E8372978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620-202F-4996-B198-304472EA2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7FEC-FE05-4C16-8124-0F0845DCA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DC4-7BC1-4544-92AC-5CB3932C7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BC5A-1C35-428A-A041-8FCC3AFBD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6295-FED7-467C-BBA5-9A09AF7447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00A0-DA9E-4D01-B2F0-FB33B088A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2398-866D-4442-872B-A14B4BC31E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D8E-9692-4A3F-9AE1-D5839D657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5EE-5D58-497C-A6BE-264275A478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C5C-79DB-453F-9A36-F090529CB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E36-789C-4623-8F78-51D3D27E7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FB3B-871E-4330-9D7C-2E455EAAE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1DA1-1CA0-4F9B-9364-EE0E93D9F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FEBD-A8E3-44F4-8162-427F0CC2EF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F4A-468D-45ED-B9C6-0AEC6F699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B33-D271-4BC3-A74B-B9ECC0694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468-47AF-4A4C-9950-2B2AC45AB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9506-6076-443D-8A41-D199B511C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4D1D-56CD-4CE1-AAF9-6C0C3B5CF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C41-7387-4925-8D2A-03E2149F9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F05C-8DC6-429E-A585-5A87AF654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320-11E2-4EA6-8A03-2E042E667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535C-C1AC-474C-9F65-8CB42C5F6F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5B1F-E669-4473-80A6-B0D23382D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7EDA-69CB-4D1E-9F3C-94BA774F0E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405160" y="3076560"/>
            <a:ext cx="43336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29600" cy="566748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2357280" y="1793880"/>
            <a:ext cx="500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3357720" y="1763640"/>
            <a:ext cx="6206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4500720" y="1785960"/>
            <a:ext cx="6206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3929040" y="2643120"/>
            <a:ext cx="6206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5286240" y="2643120"/>
            <a:ext cx="17859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8"/>
          <p:cNvSpPr/>
          <p:nvPr/>
        </p:nvSpPr>
        <p:spPr>
          <a:xfrm>
            <a:off x="7643880" y="2643120"/>
            <a:ext cx="6206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9"/>
          <p:cNvSpPr/>
          <p:nvPr/>
        </p:nvSpPr>
        <p:spPr>
          <a:xfrm>
            <a:off x="2643120" y="392904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0"/>
          <p:cNvSpPr/>
          <p:nvPr/>
        </p:nvSpPr>
        <p:spPr>
          <a:xfrm>
            <a:off x="4429080" y="3929040"/>
            <a:ext cx="15717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1"/>
          <p:cNvSpPr/>
          <p:nvPr/>
        </p:nvSpPr>
        <p:spPr>
          <a:xfrm>
            <a:off x="6829560" y="3963960"/>
            <a:ext cx="885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2"/>
          <p:cNvSpPr/>
          <p:nvPr/>
        </p:nvSpPr>
        <p:spPr>
          <a:xfrm>
            <a:off x="3143160" y="528624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3"/>
          <p:cNvSpPr/>
          <p:nvPr/>
        </p:nvSpPr>
        <p:spPr>
          <a:xfrm>
            <a:off x="5786280" y="5286240"/>
            <a:ext cx="9288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14"/>
          <p:cNvSpPr/>
          <p:nvPr/>
        </p:nvSpPr>
        <p:spPr>
          <a:xfrm>
            <a:off x="2857680" y="6143760"/>
            <a:ext cx="6206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5"/>
          <p:cNvSpPr/>
          <p:nvPr/>
        </p:nvSpPr>
        <p:spPr>
          <a:xfrm>
            <a:off x="4214880" y="614376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66560" y="1238400"/>
            <a:ext cx="8210880" cy="438120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4429080" y="1714680"/>
            <a:ext cx="9288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2357280" y="2143080"/>
            <a:ext cx="9288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2392200" y="305748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1928880" y="3929040"/>
            <a:ext cx="2286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2857680" y="478620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5360" y="1057320"/>
            <a:ext cx="8153280" cy="47433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2357280" y="3357720"/>
            <a:ext cx="1000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2286000" y="3857760"/>
            <a:ext cx="178596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500200" y="4357800"/>
            <a:ext cx="13575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786040" y="535788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514440" y="2205000"/>
            <a:ext cx="8115120" cy="244800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4140360" y="2214720"/>
            <a:ext cx="100008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4011480" y="3260880"/>
            <a:ext cx="1000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7575480" y="375120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1000080" y="4286160"/>
            <a:ext cx="15001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476280" y="2166840"/>
            <a:ext cx="81914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964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00040" y="762120"/>
            <a:ext cx="8153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57200" y="8002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857160" y="2214720"/>
            <a:ext cx="5000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857160" y="4000680"/>
            <a:ext cx="3571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52520" y="1671480"/>
            <a:ext cx="8238960" cy="35150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857160" y="1714680"/>
            <a:ext cx="5000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857160" y="3500280"/>
            <a:ext cx="500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85640" y="1671480"/>
            <a:ext cx="8172720" cy="351504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928800" y="1714680"/>
            <a:ext cx="5000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6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